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F37-D81C-4DCA-811B-D13A0E793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A26F-5332-4EBD-A3B3-3DD7E445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CB56-7651-4005-A828-91385584D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3E1D-8D2A-4590-BD2E-1D77FFD6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296-8FD6-4FD8-8377-522A9CC9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2DB-2DD6-4B27-ACA7-C2001840C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78D6-3724-4EFE-A341-F7ADA8C6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1F16-8747-4E57-A371-1C66DFA96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98F5-B4B4-45B8-9866-16FBEC31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7D82-F55E-4164-98B6-5CB3CC0A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527-BC55-4568-863F-ED6AC947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3FD4-57B2-497A-A706-38A53E60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632B-DE0F-4C91-BB1C-7CD0C014E9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907560"/>
            <a:ext cx="6696360" cy="468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0" spc="-1" strike="noStrike">
                <a:solidFill>
                  <a:srgbClr val="000000"/>
                </a:solidFill>
                <a:latin typeface="Book Antiqua"/>
              </a:rPr>
              <a:t>Italian</a:t>
            </a:r>
            <a:br>
              <a:rPr sz="10000"/>
            </a:br>
            <a:r>
              <a:rPr b="0" lang="de-DE" sz="10000" spc="-1" strike="noStrike">
                <a:solidFill>
                  <a:srgbClr val="000000"/>
                </a:solidFill>
                <a:latin typeface="Book Antiqua"/>
              </a:rPr>
              <a:t>culture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7" descr="italien_karte"/>
          <p:cNvPicPr/>
          <p:nvPr/>
        </p:nvPicPr>
        <p:blipFill>
          <a:blip r:embed="rId1"/>
          <a:stretch/>
        </p:blipFill>
        <p:spPr>
          <a:xfrm>
            <a:off x="5076720" y="836640"/>
            <a:ext cx="38293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sh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italien"/>
          <p:cNvPicPr/>
          <p:nvPr/>
        </p:nvPicPr>
        <p:blipFill>
          <a:blip r:embed="rId1"/>
          <a:stretch/>
        </p:blipFill>
        <p:spPr>
          <a:xfrm>
            <a:off x="6084720" y="189000"/>
            <a:ext cx="2673360" cy="15606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5"/>
          <p:cNvSpPr/>
          <p:nvPr/>
        </p:nvSpPr>
        <p:spPr>
          <a:xfrm>
            <a:off x="468360" y="476280"/>
            <a:ext cx="53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Italy - cul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4" descr="eeh_basic_gnocchi_foto"/>
          <p:cNvPicPr/>
          <p:nvPr/>
        </p:nvPicPr>
        <p:blipFill>
          <a:blip r:embed="rId1"/>
          <a:srcRect l="18397" t="20818" r="0" b="13973"/>
          <a:stretch/>
        </p:blipFill>
        <p:spPr>
          <a:xfrm>
            <a:off x="1042920" y="4508640"/>
            <a:ext cx="2527200" cy="2030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ravioli"/>
          <p:cNvPicPr/>
          <p:nvPr/>
        </p:nvPicPr>
        <p:blipFill>
          <a:blip r:embed="rId2"/>
          <a:srcRect l="0" t="0" r="4001" b="5500"/>
          <a:stretch/>
        </p:blipFill>
        <p:spPr>
          <a:xfrm>
            <a:off x="5940360" y="4149720"/>
            <a:ext cx="3025800" cy="18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2671"/>
          <p:cNvPicPr/>
          <p:nvPr/>
        </p:nvPicPr>
        <p:blipFill>
          <a:blip r:embed="rId3"/>
          <a:stretch/>
        </p:blipFill>
        <p:spPr>
          <a:xfrm>
            <a:off x="3203640" y="2924280"/>
            <a:ext cx="3220920" cy="1923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0070"/>
          <p:cNvPicPr/>
          <p:nvPr/>
        </p:nvPicPr>
        <p:blipFill>
          <a:blip r:embed="rId4"/>
          <a:stretch/>
        </p:blipFill>
        <p:spPr>
          <a:xfrm>
            <a:off x="5867280" y="1628640"/>
            <a:ext cx="2943360" cy="17589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iz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agh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anna Cot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avio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noc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266120" y="333360"/>
            <a:ext cx="210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1. Food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pizza-margherita"/>
          <p:cNvPicPr/>
          <p:nvPr/>
        </p:nvPicPr>
        <p:blipFill>
          <a:blip r:embed="rId5"/>
          <a:stretch/>
        </p:blipFill>
        <p:spPr>
          <a:xfrm>
            <a:off x="4067280" y="47628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limoncello_01"/>
          <p:cNvPicPr/>
          <p:nvPr/>
        </p:nvPicPr>
        <p:blipFill>
          <a:blip r:embed="rId1"/>
          <a:stretch/>
        </p:blipFill>
        <p:spPr>
          <a:xfrm>
            <a:off x="611280" y="2492280"/>
            <a:ext cx="2386080" cy="41767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324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moncell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166400" y="333360"/>
            <a:ext cx="326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2. Beverage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wein"/>
          <p:cNvPicPr/>
          <p:nvPr/>
        </p:nvPicPr>
        <p:blipFill>
          <a:blip r:embed="rId2"/>
          <a:stretch/>
        </p:blipFill>
        <p:spPr>
          <a:xfrm>
            <a:off x="5334120" y="400068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5435640" y="1916280"/>
            <a:ext cx="18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ell-dre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nly on the beach: Bermudas, Bikini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famous labels: Prada, Etro, Versace, 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230840" y="333360"/>
            <a:ext cx="285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3. Fashion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ink to you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279800" y="333360"/>
            <a:ext cx="236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4. Music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Don‘t swim without clo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moking ban for: bars, cinemas, restaurants, offices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o queues in supermar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199520" y="333360"/>
            <a:ext cx="348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Book Antiqua"/>
              </a:rPr>
              <a:t>5. Behaviour</a:t>
            </a:r>
            <a:r>
              <a:rPr b="0" lang="de-DE" sz="40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1:54:12Z</dcterms:created>
  <dc:creator>g.08.luibrand.corinn</dc:creator>
  <dc:description/>
  <dc:language>en-US</dc:language>
  <cp:lastModifiedBy>Sonja</cp:lastModifiedBy>
  <dcterms:modified xsi:type="dcterms:W3CDTF">2010-03-07T16:52:53Z</dcterms:modified>
  <cp:revision>5</cp:revision>
  <dc:subject/>
  <dc:title>Italy culture</dc:title>
</cp:coreProperties>
</file>